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26.jpeg" ContentType="image/jpeg"/>
  <Override PartName="/ppt/media/image18.wmf" ContentType="image/x-wmf"/>
  <Override PartName="/ppt/media/image17.jpeg" ContentType="image/jpeg"/>
  <Override PartName="/ppt/media/image16.jpeg" ContentType="image/jpeg"/>
  <Override PartName="/ppt/media/image15.png" ContentType="image/png"/>
  <Override PartName="/ppt/media/image31.wmf" ContentType="image/x-wmf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7.jpeg" ContentType="image/jpeg"/>
  <Override PartName="/ppt/media/image13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9.wmf" ContentType="image/x-wmf"/>
  <Override PartName="/ppt/media/image38.wmf" ContentType="image/x-wmf"/>
  <Override PartName="/ppt/media/image40.png" ContentType="image/png"/>
  <Override PartName="/ppt/media/image8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4.wmf" ContentType="image/x-wmf"/>
  <Override PartName="/ppt/media/image3.gif" ContentType="image/gif"/>
  <Override PartName="/ppt/media/image14.wmf" ContentType="image/x-wmf"/>
  <Override PartName="/ppt/media/image32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167-25D9-4281-93BD-E1CA2E57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F84-6F1B-46BA-ADD5-33F1173A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23AC-F432-4814-B052-E20F8883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28C-23B8-4D23-A83F-083460AB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786-8767-420B-A0AF-5B906100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0546-6440-4443-8143-3B47DA58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186-EFD2-4BB5-855D-BA4F63DD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03D-30AA-46D6-9E89-DF89A28A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18DC-4BA5-4AEB-A001-F3E3EBDC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30F-BEBF-43AD-983F-D3841EB3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EDA-FC5E-414B-9D84-B1CA0472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745-84CB-4B52-98CA-0987B03B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ipHop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Jeste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Jester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Jeste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4A6F-57E1-413D-8458-02B61BE92BFF}" type="slidenum">
              <a:rPr b="0" lang="en-US" sz="1200" spc="-1" strike="noStrike">
                <a:solidFill>
                  <a:srgbClr val="898989"/>
                </a:solidFill>
                <a:latin typeface="Jeste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ipHop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ste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3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t._Washington_from_Bretton_Woods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mountwashington.org/weather/cam/" TargetMode="External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3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file:///Videos/Vermont%20Syrup.wmv" TargetMode="External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3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Videos/Paul%20Revere.asf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plimoth.org/features/mayflower-2/journey/journey.php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3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Videos/Visit%20a%20Cranberry%20Farm.wmv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image" Target="../media/image3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image" Target="../media/image3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Videos/West%20Quoddy%20Lighthouse%20Sunrise.avi" TargetMode="External"/><Relationship Id="rId2" Type="http://schemas.openxmlformats.org/officeDocument/2006/relationships/hyperlink" Target="file:///Videos/West%20Quoddy%20Lighthouse%20Sunrise.avi" TargetMode="External"/><Relationship Id="rId3" Type="http://schemas.openxmlformats.org/officeDocument/2006/relationships/hyperlink" Target="file:///Videos/West%20Quoddy%20Lighthouse%20Sunrise.avi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Videos/West%20Quoddy%20Lighthouse.avi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igans Island"/>
              </a:rPr>
              <a:t>Welcome to the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igans Island"/>
              </a:rPr>
              <a:t>Northeast Region!</a:t>
            </a:r>
            <a:endParaRPr b="0" lang="en-US" sz="8000" spc="-1" strike="noStrike">
              <a:solidFill>
                <a:srgbClr val="000000"/>
              </a:solidFill>
              <a:latin typeface="HipHopDemi"/>
            </a:endParaRPr>
          </a:p>
        </p:txBody>
      </p:sp>
      <p:pic>
        <p:nvPicPr>
          <p:cNvPr id="80" name="Picture 2" descr="http://www.bio-link.org/images/NEregionmap.gif"/>
          <p:cNvPicPr/>
          <p:nvPr/>
        </p:nvPicPr>
        <p:blipFill>
          <a:blip r:embed="rId1"/>
          <a:stretch/>
        </p:blipFill>
        <p:spPr>
          <a:xfrm>
            <a:off x="2895480" y="3200400"/>
            <a:ext cx="3781440" cy="28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MCMP00094_0000[1]"/>
          <p:cNvPicPr/>
          <p:nvPr/>
        </p:nvPicPr>
        <p:blipFill>
          <a:blip r:embed="rId1"/>
          <a:stretch/>
        </p:blipFill>
        <p:spPr>
          <a:xfrm>
            <a:off x="3200400" y="2666880"/>
            <a:ext cx="1830240" cy="379728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3" descr=""/>
          <p:cNvPicPr/>
          <p:nvPr/>
        </p:nvPicPr>
        <p:blipFill>
          <a:blip r:embed="rId2"/>
          <a:stretch/>
        </p:blipFill>
        <p:spPr>
          <a:xfrm>
            <a:off x="85680" y="1200240"/>
            <a:ext cx="9045720" cy="1725480"/>
          </a:xfrm>
          <a:prstGeom prst="rect">
            <a:avLst/>
          </a:prstGeom>
          <a:ln w="0">
            <a:noFill/>
          </a:ln>
        </p:spPr>
      </p:pic>
      <p:sp>
        <p:nvSpPr>
          <p:cNvPr id="111" name="5-Point Star 9"/>
          <p:cNvSpPr/>
          <p:nvPr/>
        </p:nvSpPr>
        <p:spPr>
          <a:xfrm>
            <a:off x="4343400" y="525780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img1.loadtr.com/b-425102-animated_train.gif"/>
          <p:cNvPicPr/>
          <p:nvPr/>
        </p:nvPicPr>
        <p:blipFill>
          <a:blip r:embed="rId3"/>
          <a:stretch/>
        </p:blipFill>
        <p:spPr>
          <a:xfrm>
            <a:off x="9144000" y="3200400"/>
            <a:ext cx="5257800" cy="2730600"/>
          </a:xfrm>
          <a:prstGeom prst="rect">
            <a:avLst/>
          </a:prstGeom>
          <a:ln w="0">
            <a:noFill/>
          </a:ln>
        </p:spPr>
      </p:pic>
      <p:pic>
        <p:nvPicPr>
          <p:cNvPr id="113" name="Train 02.wav" descr=""/>
          <p:cNvPicPr/>
          <p:nvPr/>
        </p:nvPicPr>
        <p:blipFill>
          <a:blip r:embed="rId4"/>
          <a:stretch/>
        </p:blipFill>
        <p:spPr>
          <a:xfrm>
            <a:off x="57150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55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689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The Mountains of the Northeast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 oldest chain of mountains in North America is the Appalachian Mountain Range.  It is made up of several smaller range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ester"/>
              </a:rPr>
              <a:t>White Mountains</a:t>
            </a:r>
            <a:endParaRPr b="0" lang="en-US" sz="2800" spc="-1" strike="noStrike">
              <a:solidFill>
                <a:srgbClr val="000000"/>
              </a:solidFill>
              <a:latin typeface="Jeste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ester"/>
              </a:rPr>
              <a:t>Green Mountains</a:t>
            </a:r>
            <a:endParaRPr b="0" lang="en-US" sz="2800" spc="-1" strike="noStrike">
              <a:solidFill>
                <a:srgbClr val="000000"/>
              </a:solidFill>
              <a:latin typeface="Jeste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ester"/>
              </a:rPr>
              <a:t>Catskill Mountains</a:t>
            </a:r>
            <a:endParaRPr b="0" lang="en-US" sz="28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The White Mountain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Found in New Hampshire and part of Maine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Snow covered peaks may have given them their name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Several Ski Resorts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18" name="Picture 2" descr="http://www.visitwhitemountains.com/library/images/photo-gallery/scenics/6.jpg"/>
          <p:cNvPicPr/>
          <p:nvPr/>
        </p:nvPicPr>
        <p:blipFill>
          <a:blip r:embed="rId1"/>
          <a:stretch/>
        </p:blipFill>
        <p:spPr>
          <a:xfrm>
            <a:off x="4495680" y="3048120"/>
            <a:ext cx="436896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Mount Washington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 highest peak in the Northeast United States, standing at 6, 288 feet tall!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It lies within the White Mountain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21" name="Picture 2" descr="http://upload.wikimedia.org/wikipedia/commons/thumb/d/d7/Mt._Washington_from_Bretton_Woods.JPG/280px-Mt._Washington_from_Bretton_Wood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87800" y="3276720"/>
            <a:ext cx="5271840" cy="3276360"/>
          </a:xfrm>
          <a:prstGeom prst="rect">
            <a:avLst/>
          </a:prstGeom>
          <a:ln w="0">
            <a:noFill/>
          </a:ln>
        </p:spPr>
      </p:pic>
      <p:sp>
        <p:nvSpPr>
          <p:cNvPr id="122" name="Action Button: Return 4"/>
          <p:cNvSpPr/>
          <p:nvPr/>
        </p:nvSpPr>
        <p:spPr>
          <a:xfrm>
            <a:off x="5335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228600" y="3581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lick here to see the current weather conditions at Mt. Wash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A mineral is a material that was never alive and is found in the Earth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New Hampshire, known as the Granite State, has many </a:t>
            </a:r>
            <a:r>
              <a:rPr b="1" lang="en-US" sz="3200" spc="-1" strike="noStrike">
                <a:solidFill>
                  <a:srgbClr val="ff0000"/>
                </a:solidFill>
                <a:latin typeface="Jester"/>
              </a:rPr>
              <a:t>quarries</a:t>
            </a: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Jester"/>
              </a:rPr>
              <a:t>quarry</a:t>
            </a: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 is a place where stone is dug, cut, or blasted out to be used in building construction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MS900069620[1].wav" descr=""/>
          <p:cNvPicPr/>
          <p:nvPr/>
        </p:nvPicPr>
        <p:blipFill>
          <a:blip r:embed="rId1"/>
          <a:stretch/>
        </p:blipFill>
        <p:spPr>
          <a:xfrm>
            <a:off x="56386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5410080" y="5181480"/>
            <a:ext cx="914400" cy="76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ipHopDemi"/>
              </a:rPr>
              <a:t>All Aboard!!!!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Take out your tickets---we’re going on a train ride to Vermont!</a:t>
            </a:r>
            <a:endParaRPr b="0" lang="en-US" sz="44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30" name="Picture 2" descr="http://img1.loadtr.com/b-425102-animated_train.gif"/>
          <p:cNvPicPr/>
          <p:nvPr/>
        </p:nvPicPr>
        <p:blipFill>
          <a:blip r:embed="rId2"/>
          <a:stretch/>
        </p:blipFill>
        <p:spPr>
          <a:xfrm>
            <a:off x="9144000" y="3962520"/>
            <a:ext cx="5257800" cy="2730240"/>
          </a:xfrm>
          <a:prstGeom prst="rect">
            <a:avLst/>
          </a:prstGeom>
          <a:ln w="0">
            <a:noFill/>
          </a:ln>
        </p:spPr>
      </p:pic>
      <p:pic>
        <p:nvPicPr>
          <p:cNvPr id="131" name="MS900069620[1].wav" descr=""/>
          <p:cNvPicPr/>
          <p:nvPr/>
        </p:nvPicPr>
        <p:blipFill>
          <a:blip r:embed="rId3"/>
          <a:stretch/>
        </p:blipFill>
        <p:spPr>
          <a:xfrm>
            <a:off x="56386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Gilligans Islan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440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77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4400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MCMP00070_0000[1]"/>
          <p:cNvPicPr/>
          <p:nvPr/>
        </p:nvPicPr>
        <p:blipFill>
          <a:blip r:embed="rId1"/>
          <a:stretch/>
        </p:blipFill>
        <p:spPr>
          <a:xfrm>
            <a:off x="3276720" y="2741760"/>
            <a:ext cx="1981080" cy="391464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3" descr=""/>
          <p:cNvPicPr/>
          <p:nvPr/>
        </p:nvPicPr>
        <p:blipFill>
          <a:blip r:embed="rId2"/>
          <a:stretch/>
        </p:blipFill>
        <p:spPr>
          <a:xfrm>
            <a:off x="603360" y="1200240"/>
            <a:ext cx="8016840" cy="1725480"/>
          </a:xfrm>
          <a:prstGeom prst="rect">
            <a:avLst/>
          </a:prstGeom>
          <a:ln w="0">
            <a:noFill/>
          </a:ln>
        </p:spPr>
      </p:pic>
      <p:sp>
        <p:nvSpPr>
          <p:cNvPr id="134" name="5-Point Star 9"/>
          <p:cNvSpPr/>
          <p:nvPr/>
        </p:nvSpPr>
        <p:spPr>
          <a:xfrm>
            <a:off x="4267080" y="3733920"/>
            <a:ext cx="304920" cy="30456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img1.loadtr.com/b-425102-animated_train.gif"/>
          <p:cNvPicPr/>
          <p:nvPr/>
        </p:nvPicPr>
        <p:blipFill>
          <a:blip r:embed="rId3"/>
          <a:stretch/>
        </p:blipFill>
        <p:spPr>
          <a:xfrm>
            <a:off x="9144000" y="3200400"/>
            <a:ext cx="5257800" cy="2730600"/>
          </a:xfrm>
          <a:prstGeom prst="rect">
            <a:avLst/>
          </a:prstGeom>
          <a:ln w="0">
            <a:noFill/>
          </a:ln>
        </p:spPr>
      </p:pic>
      <p:pic>
        <p:nvPicPr>
          <p:cNvPr id="136" name="Train 02.wav" descr=""/>
          <p:cNvPicPr/>
          <p:nvPr/>
        </p:nvPicPr>
        <p:blipFill>
          <a:blip r:embed="rId4"/>
          <a:stretch/>
        </p:blipFill>
        <p:spPr>
          <a:xfrm>
            <a:off x="57150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85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6894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The Green Mountain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Named for the forest of evergreens that covered the mountains when the first European settlers arrive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Located in Vermont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139" name="Action Button: Return 3"/>
          <p:cNvSpPr/>
          <p:nvPr/>
        </p:nvSpPr>
        <p:spPr>
          <a:xfrm>
            <a:off x="3808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://www.free-slideshow.com/stock-photos/green_mountains/green-mountain-valley.jpg"/>
          <p:cNvPicPr/>
          <p:nvPr/>
        </p:nvPicPr>
        <p:blipFill>
          <a:blip r:embed="rId1"/>
          <a:stretch/>
        </p:blipFill>
        <p:spPr>
          <a:xfrm>
            <a:off x="4648320" y="3352680"/>
            <a:ext cx="3819240" cy="286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http://vermontmaple.org/images/large-images/tree-tapping-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Maple Syrup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Maple syrup is made from the sap of sugar maple tree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Sap is the liquid that circulates through a plant carrying water and foo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Since a great many sugar maple trees grow in Vermont, more maple syrup is produced there than any other state in the U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0" y="5638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Click here for a vid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MS900069620[1].wav" descr=""/>
          <p:cNvPicPr/>
          <p:nvPr/>
        </p:nvPicPr>
        <p:blipFill>
          <a:blip r:embed="rId1"/>
          <a:stretch/>
        </p:blipFill>
        <p:spPr>
          <a:xfrm>
            <a:off x="56386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5410080" y="5181480"/>
            <a:ext cx="914400" cy="76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ipHopDemi"/>
              </a:rPr>
              <a:t>All Aboard!!!!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Take out your tickets---we’re going on a train ride to Massachusetts!</a:t>
            </a:r>
            <a:endParaRPr b="0" lang="en-US" sz="44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49" name="Picture 2" descr="http://img1.loadtr.com/b-425102-animated_train.gif"/>
          <p:cNvPicPr/>
          <p:nvPr/>
        </p:nvPicPr>
        <p:blipFill>
          <a:blip r:embed="rId2"/>
          <a:stretch/>
        </p:blipFill>
        <p:spPr>
          <a:xfrm>
            <a:off x="9144000" y="3962520"/>
            <a:ext cx="5257800" cy="2730240"/>
          </a:xfrm>
          <a:prstGeom prst="rect">
            <a:avLst/>
          </a:prstGeom>
          <a:ln w="0">
            <a:noFill/>
          </a:ln>
        </p:spPr>
      </p:pic>
      <p:pic>
        <p:nvPicPr>
          <p:cNvPr id="150" name="MS900069620[1].wav" descr=""/>
          <p:cNvPicPr/>
          <p:nvPr/>
        </p:nvPicPr>
        <p:blipFill>
          <a:blip r:embed="rId3"/>
          <a:stretch/>
        </p:blipFill>
        <p:spPr>
          <a:xfrm>
            <a:off x="56386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Gilligans Islan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40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107" dur="5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4400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S900069620[1].wav" descr=""/>
          <p:cNvPicPr/>
          <p:nvPr/>
        </p:nvPicPr>
        <p:blipFill>
          <a:blip r:embed="rId1"/>
          <a:stretch/>
        </p:blipFill>
        <p:spPr>
          <a:xfrm>
            <a:off x="56386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5334120" y="5181480"/>
            <a:ext cx="914400" cy="76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ipHopDemi"/>
              </a:rPr>
              <a:t>All Aboard!!!!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Take out your tickets---we’re going on a train ride to Lubec, Maine to visit the easternmost point of the U.S.</a:t>
            </a:r>
            <a:endParaRPr b="0" lang="en-US" sz="44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85" name="Picture 2" descr="http://img1.loadtr.com/b-425102-animated_train.gif"/>
          <p:cNvPicPr/>
          <p:nvPr/>
        </p:nvPicPr>
        <p:blipFill>
          <a:blip r:embed="rId2"/>
          <a:stretch/>
        </p:blipFill>
        <p:spPr>
          <a:xfrm>
            <a:off x="9144000" y="3962520"/>
            <a:ext cx="5257800" cy="273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indefinite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Gilligans Islan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4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20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MCMP00109_0000[1]"/>
          <p:cNvPicPr/>
          <p:nvPr/>
        </p:nvPicPr>
        <p:blipFill>
          <a:blip r:embed="rId1"/>
          <a:stretch/>
        </p:blipFill>
        <p:spPr>
          <a:xfrm>
            <a:off x="2895480" y="3124080"/>
            <a:ext cx="4114800" cy="2143080"/>
          </a:xfrm>
          <a:prstGeom prst="rect">
            <a:avLst/>
          </a:prstGeom>
          <a:ln w="0">
            <a:noFill/>
          </a:ln>
        </p:spPr>
      </p:pic>
      <p:pic>
        <p:nvPicPr>
          <p:cNvPr id="152" name="Rectangle 3" descr=""/>
          <p:cNvPicPr/>
          <p:nvPr/>
        </p:nvPicPr>
        <p:blipFill>
          <a:blip r:embed="rId2"/>
          <a:stretch/>
        </p:blipFill>
        <p:spPr>
          <a:xfrm>
            <a:off x="249120" y="1200240"/>
            <a:ext cx="8723520" cy="1725480"/>
          </a:xfrm>
          <a:prstGeom prst="rect">
            <a:avLst/>
          </a:prstGeom>
          <a:ln w="0">
            <a:noFill/>
          </a:ln>
        </p:spPr>
      </p:pic>
      <p:sp>
        <p:nvSpPr>
          <p:cNvPr id="153" name="5-Point Star 9"/>
          <p:cNvSpPr/>
          <p:nvPr/>
        </p:nvSpPr>
        <p:spPr>
          <a:xfrm>
            <a:off x="5181480" y="388620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http://img1.loadtr.com/b-425102-animated_train.gif"/>
          <p:cNvPicPr/>
          <p:nvPr/>
        </p:nvPicPr>
        <p:blipFill>
          <a:blip r:embed="rId3"/>
          <a:stretch/>
        </p:blipFill>
        <p:spPr>
          <a:xfrm>
            <a:off x="9144000" y="3200400"/>
            <a:ext cx="5257800" cy="2730600"/>
          </a:xfrm>
          <a:prstGeom prst="rect">
            <a:avLst/>
          </a:prstGeom>
          <a:ln w="0">
            <a:noFill/>
          </a:ln>
        </p:spPr>
      </p:pic>
      <p:pic>
        <p:nvPicPr>
          <p:cNvPr id="155" name="Train 02.wav" descr=""/>
          <p:cNvPicPr/>
          <p:nvPr/>
        </p:nvPicPr>
        <p:blipFill>
          <a:blip r:embed="rId4"/>
          <a:stretch/>
        </p:blipFill>
        <p:spPr>
          <a:xfrm>
            <a:off x="61722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115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6894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Boston, Massachusett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 first shots of the American Revolution were fired in a town near Boston called Lexington.  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A revolution is a fight to overthrow the government.  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One of three largest cities in the Northeast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http://www.ecaptain.com/files/images/Bosto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Boston Harbor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Boston Common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 starting point of the Freedom Trail, Boston Common is the oldest park in the country. The park is almost 50 acres in size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Celebrities, including Martin Luther King Jr., Pope John Paul II, and Gloria Steinem (advocate of the feminist revolution), have given speeches at the Common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62" name="Picture 2" descr="Boston Common"/>
          <p:cNvPicPr/>
          <p:nvPr/>
        </p:nvPicPr>
        <p:blipFill>
          <a:blip r:embed="rId1"/>
          <a:stretch/>
        </p:blipFill>
        <p:spPr>
          <a:xfrm>
            <a:off x="0" y="5143680"/>
            <a:ext cx="914400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Freedom Trail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600" y="9907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ester"/>
              </a:rPr>
              <a:t>Begins near the Public Gardens and ends nearby the city of Charlestown.  </a:t>
            </a:r>
            <a:endParaRPr b="0" lang="en-US" sz="28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ester"/>
              </a:rPr>
              <a:t>It passes Paul Revere’s house and a number of other important historic places.</a:t>
            </a:r>
            <a:endParaRPr b="0" lang="en-US" sz="28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Jester"/>
                <a:hlinkClick r:id="rId1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65" name="Picture 5" descr="The Freedom Trail"/>
          <p:cNvPicPr/>
          <p:nvPr/>
        </p:nvPicPr>
        <p:blipFill>
          <a:blip r:embed="rId2"/>
          <a:stretch/>
        </p:blipFill>
        <p:spPr>
          <a:xfrm>
            <a:off x="0" y="4811760"/>
            <a:ext cx="9144000" cy="2046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Paul Revere House"/>
          <p:cNvPicPr/>
          <p:nvPr/>
        </p:nvPicPr>
        <p:blipFill>
          <a:blip r:embed="rId3"/>
          <a:stretch/>
        </p:blipFill>
        <p:spPr>
          <a:xfrm>
            <a:off x="5334120" y="1143000"/>
            <a:ext cx="3292200" cy="27432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5334120" y="3962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 Revere’s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ea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Cape Cod, Massachusett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Cape Cod is a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Jester"/>
              </a:rPr>
              <a:t>peninsula</a:t>
            </a: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Jester"/>
              </a:rPr>
              <a:t>A peninsula is a piece of land almost surrounded by water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 Cape is home to tourists during the warm summer month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Its location and climate have made it one of the most well-known fishing areas in the worl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Plymouth, Massachusett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 Northeast played an important role in the beginning of the United State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One of the first English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Jester"/>
              </a:rPr>
              <a:t>colonies</a:t>
            </a: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 in North America began at Plymouth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Jester"/>
              </a:rPr>
              <a:t>A colony is a settlement of people who come from one country to live in another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By the early 1700’s, there were 13 colonie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72" name="Rectangle 3" descr=""/>
          <p:cNvPicPr/>
          <p:nvPr/>
        </p:nvPicPr>
        <p:blipFill>
          <a:blip r:embed="rId1"/>
          <a:stretch/>
        </p:blipFill>
        <p:spPr>
          <a:xfrm>
            <a:off x="3578400" y="1011240"/>
            <a:ext cx="1841400" cy="8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The Mayflower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2280" y="1294920"/>
            <a:ext cx="4572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Jester"/>
                <a:hlinkClick r:id="rId1"/>
              </a:rPr>
              <a:t>Mayflower II Journey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our the Mayflower!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 Mayflower Compact was an agreement that said the pilgrims would set up a government and make laws for the good of everyone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75" name="Picture 5" descr="Mayflower II Photo"/>
          <p:cNvPicPr/>
          <p:nvPr/>
        </p:nvPicPr>
        <p:blipFill>
          <a:blip r:embed="rId2"/>
          <a:stretch/>
        </p:blipFill>
        <p:spPr>
          <a:xfrm>
            <a:off x="4648320" y="1828800"/>
            <a:ext cx="42591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Cranberries at Edaville USA"/>
          <p:cNvPicPr/>
          <p:nvPr/>
        </p:nvPicPr>
        <p:blipFill>
          <a:blip r:embed="rId1"/>
          <a:stretch/>
        </p:blipFill>
        <p:spPr>
          <a:xfrm>
            <a:off x="4495680" y="1752480"/>
            <a:ext cx="4289400" cy="37339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ipHopDemi"/>
              </a:rPr>
              <a:t>Cranberrie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240" y="106668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One product grown in the N.E. is the cranberry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Of the 1,000 cranberry farms in the US, 500 of them are in Massachusetts---That’s half of all the farms!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Most cranberries are grown in bog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ipHopDemi"/>
              </a:rPr>
              <a:t>Bog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A bog is an area of soft, wet, spongy groun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To prepare a cranberry bog, swampy land must be leveled and cleare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Next, it is covered with sand to allow for drainage.</a:t>
            </a:r>
            <a:endParaRPr b="0" lang="en-US" sz="2800" spc="-1" strike="noStrike">
              <a:solidFill>
                <a:srgbClr val="000000"/>
              </a:solidFill>
              <a:latin typeface="Jeste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ester"/>
              </a:rPr>
              <a:t>Finally, small, new cranberry plants are pressed into the sand.</a:t>
            </a:r>
            <a:endParaRPr b="0" lang="en-US" sz="28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MCMP00089_0000[1]"/>
          <p:cNvPicPr/>
          <p:nvPr/>
        </p:nvPicPr>
        <p:blipFill>
          <a:blip r:embed="rId1"/>
          <a:stretch/>
        </p:blipFill>
        <p:spPr>
          <a:xfrm>
            <a:off x="3352680" y="2666880"/>
            <a:ext cx="2533680" cy="396252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3" descr=""/>
          <p:cNvPicPr/>
          <p:nvPr/>
        </p:nvPicPr>
        <p:blipFill>
          <a:blip r:embed="rId2"/>
          <a:stretch/>
        </p:blipFill>
        <p:spPr>
          <a:xfrm>
            <a:off x="603360" y="1200240"/>
            <a:ext cx="8016840" cy="1725480"/>
          </a:xfrm>
          <a:prstGeom prst="rect">
            <a:avLst/>
          </a:prstGeom>
          <a:ln w="0">
            <a:noFill/>
          </a:ln>
        </p:spPr>
      </p:pic>
      <p:sp>
        <p:nvSpPr>
          <p:cNvPr id="88" name="5-Point Star 9"/>
          <p:cNvSpPr/>
          <p:nvPr/>
        </p:nvSpPr>
        <p:spPr>
          <a:xfrm>
            <a:off x="4343400" y="5105520"/>
            <a:ext cx="304920" cy="30456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img1.loadtr.com/b-425102-animated_train.gif"/>
          <p:cNvPicPr/>
          <p:nvPr/>
        </p:nvPicPr>
        <p:blipFill>
          <a:blip r:embed="rId3"/>
          <a:stretch/>
        </p:blipFill>
        <p:spPr>
          <a:xfrm>
            <a:off x="9144000" y="3962520"/>
            <a:ext cx="5257800" cy="2730240"/>
          </a:xfrm>
          <a:prstGeom prst="rect">
            <a:avLst/>
          </a:prstGeom>
          <a:ln w="0">
            <a:noFill/>
          </a:ln>
        </p:spPr>
      </p:pic>
      <p:pic>
        <p:nvPicPr>
          <p:cNvPr id="90" name="Train 02.wav" descr=""/>
          <p:cNvPicPr/>
          <p:nvPr/>
        </p:nvPicPr>
        <p:blipFill>
          <a:blip r:embed="rId4"/>
          <a:stretch/>
        </p:blipFill>
        <p:spPr>
          <a:xfrm>
            <a:off x="57150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26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689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Jester"/>
              </a:rPr>
              <a:t>As the plants grow, they cover the bottom of the bog.  In the winter, bogs are filled with water that freezes to protect the plants.</a:t>
            </a:r>
            <a:endParaRPr b="0" lang="en-US" sz="3600" spc="-1" strike="noStrike">
              <a:solidFill>
                <a:srgbClr val="000000"/>
              </a:solidFill>
              <a:latin typeface="Jester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Jester"/>
              </a:rPr>
              <a:t>In the spring, the bogs are drained and filled again to keep bugs off of the berries.</a:t>
            </a:r>
            <a:endParaRPr b="0" lang="en-US" sz="3600" spc="-1" strike="noStrike">
              <a:solidFill>
                <a:srgbClr val="000000"/>
              </a:solidFill>
              <a:latin typeface="Jester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Jester"/>
              </a:rPr>
              <a:t>Since cranberries have small air pockets inside, they rise to the top when they are ready to be harvested. </a:t>
            </a:r>
            <a:endParaRPr b="0" lang="en-US" sz="3600" spc="-1" strike="noStrike">
              <a:solidFill>
                <a:srgbClr val="000000"/>
              </a:solidFill>
              <a:latin typeface="Jester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Jester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Jester"/>
              </a:rPr>
              <a:t>Farmers rake the bogs, which knocks the berries from their vines so they can be collecte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Jester"/>
                <a:hlinkClick r:id="rId1"/>
              </a:rPr>
              <a:t>Click here to visit a cranberry bog!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83" name="Picture 2" descr="http://www.jaunted.com/files/3/cranberry_bog_hollywood.jpg"/>
          <p:cNvPicPr/>
          <p:nvPr/>
        </p:nvPicPr>
        <p:blipFill>
          <a:blip r:embed="rId2"/>
          <a:stretch/>
        </p:blipFill>
        <p:spPr>
          <a:xfrm>
            <a:off x="2057400" y="2743200"/>
            <a:ext cx="5105520" cy="38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7" descr="http://www.dollartravels.com/images/cityguide/united-states/massachusetts/boston.jpg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Massachusetts Bay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Near Boston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Many other cities and towns around Massachusetts Bay serve as tourist, fishing, and boating center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John Adam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371240"/>
            <a:ext cx="4800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From Massachusetts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Provided strong leadership in the writing of the Declaration of Independence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Later on, he was the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Jester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 President of the United State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89" name="Picture 7" descr="http://newsrealblog.files.wordpress.com/2009/09/johnadams.jpg"/>
          <p:cNvPicPr/>
          <p:nvPr/>
        </p:nvPicPr>
        <p:blipFill>
          <a:blip r:embed="rId2"/>
          <a:stretch/>
        </p:blipFill>
        <p:spPr>
          <a:xfrm>
            <a:off x="5486400" y="1523880"/>
            <a:ext cx="3200400" cy="38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MS900069620[1].wav" descr=""/>
          <p:cNvPicPr/>
          <p:nvPr/>
        </p:nvPicPr>
        <p:blipFill>
          <a:blip r:embed="rId1"/>
          <a:stretch/>
        </p:blipFill>
        <p:spPr>
          <a:xfrm>
            <a:off x="56386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5410080" y="5181480"/>
            <a:ext cx="914400" cy="76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ipHopDemi"/>
              </a:rPr>
              <a:t>All Aboard!!!!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Take out your tickets---we’re going on a train ride to Rhode Island!</a:t>
            </a:r>
            <a:endParaRPr b="0" lang="en-US" sz="44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94" name="Picture 2" descr="http://img1.loadtr.com/b-425102-animated_train.gif"/>
          <p:cNvPicPr/>
          <p:nvPr/>
        </p:nvPicPr>
        <p:blipFill>
          <a:blip r:embed="rId2"/>
          <a:stretch/>
        </p:blipFill>
        <p:spPr>
          <a:xfrm>
            <a:off x="9144000" y="3962520"/>
            <a:ext cx="5257800" cy="2730240"/>
          </a:xfrm>
          <a:prstGeom prst="rect">
            <a:avLst/>
          </a:prstGeom>
          <a:ln w="0">
            <a:noFill/>
          </a:ln>
        </p:spPr>
      </p:pic>
      <p:pic>
        <p:nvPicPr>
          <p:cNvPr id="195" name="MS900069620[1].wav" descr=""/>
          <p:cNvPicPr/>
          <p:nvPr/>
        </p:nvPicPr>
        <p:blipFill>
          <a:blip r:embed="rId3"/>
          <a:stretch/>
        </p:blipFill>
        <p:spPr>
          <a:xfrm>
            <a:off x="56386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Gilligans Islan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4400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138" dur="5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4400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MCMP00099_0000[1]"/>
          <p:cNvPicPr/>
          <p:nvPr/>
        </p:nvPicPr>
        <p:blipFill>
          <a:blip r:embed="rId1"/>
          <a:stretch/>
        </p:blipFill>
        <p:spPr>
          <a:xfrm>
            <a:off x="3352680" y="2590920"/>
            <a:ext cx="2900520" cy="4014720"/>
          </a:xfrm>
          <a:prstGeom prst="rect">
            <a:avLst/>
          </a:prstGeom>
          <a:ln w="0">
            <a:noFill/>
          </a:ln>
        </p:spPr>
      </p:pic>
      <p:pic>
        <p:nvPicPr>
          <p:cNvPr id="197" name="Rectangle 3" descr=""/>
          <p:cNvPicPr/>
          <p:nvPr/>
        </p:nvPicPr>
        <p:blipFill>
          <a:blip r:embed="rId2"/>
          <a:stretch/>
        </p:blipFill>
        <p:spPr>
          <a:xfrm>
            <a:off x="603360" y="1200240"/>
            <a:ext cx="8016840" cy="1725480"/>
          </a:xfrm>
          <a:prstGeom prst="rect">
            <a:avLst/>
          </a:prstGeom>
          <a:ln w="0">
            <a:noFill/>
          </a:ln>
        </p:spPr>
      </p:pic>
      <p:sp>
        <p:nvSpPr>
          <p:cNvPr id="198" name="5-Point Star 9"/>
          <p:cNvSpPr/>
          <p:nvPr/>
        </p:nvSpPr>
        <p:spPr>
          <a:xfrm>
            <a:off x="4800600" y="35812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http://img1.loadtr.com/b-425102-animated_train.gif"/>
          <p:cNvPicPr/>
          <p:nvPr/>
        </p:nvPicPr>
        <p:blipFill>
          <a:blip r:embed="rId3"/>
          <a:stretch/>
        </p:blipFill>
        <p:spPr>
          <a:xfrm>
            <a:off x="9144000" y="3200400"/>
            <a:ext cx="5257800" cy="2730600"/>
          </a:xfrm>
          <a:prstGeom prst="rect">
            <a:avLst/>
          </a:prstGeom>
          <a:ln w="0">
            <a:noFill/>
          </a:ln>
        </p:spPr>
      </p:pic>
      <p:pic>
        <p:nvPicPr>
          <p:cNvPr id="200" name="Train 02.wav" descr=""/>
          <p:cNvPicPr/>
          <p:nvPr/>
        </p:nvPicPr>
        <p:blipFill>
          <a:blip r:embed="rId4"/>
          <a:stretch/>
        </p:blipFill>
        <p:spPr>
          <a:xfrm>
            <a:off x="57150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146" dur="5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6894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http://4.bp.blogspot.com/_vfNSEFI8sPE/SoAeMN9Jp7I/AAAAAAAABUY/rkzWZg_e_Go/s400/101_11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g. 126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5750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The Narragansett People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For hundreds of years, the Narragansett Indians lived in what is now Rhode Islan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y hunted, fished, and grew corn (and other vegetables) for foo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Lived in a world based on cooperation- working together to get things done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If a family needed help planting corn, all of their neighbors and friends would help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Most families shared a home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ir home was called a wigwam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A wigwam is a cozy hut made of wooden poles covered with bark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206" name="Picture 4" descr="wetu.jpg image by maggie6138"/>
          <p:cNvPicPr/>
          <p:nvPr/>
        </p:nvPicPr>
        <p:blipFill>
          <a:blip r:embed="rId1"/>
          <a:stretch/>
        </p:blipFill>
        <p:spPr>
          <a:xfrm>
            <a:off x="1523880" y="2971800"/>
            <a:ext cx="61200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114440" y="30492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ir lands were divided up into a number of territorie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Each territory, or piece of land, had its own chief, or sachem. </a:t>
            </a:r>
            <a:r>
              <a:rPr b="1" i="1" lang="en-US" sz="3200" spc="-1" strike="noStrike">
                <a:solidFill>
                  <a:srgbClr val="000000"/>
                </a:solidFill>
                <a:latin typeface="Jester"/>
              </a:rPr>
              <a:t>Sachem </a:t>
            </a: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means “ruler.”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 first Europeans to set foot on their lands were Dutch, French, and English fishermen and fur trader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208" name="Picture 4" descr="http://4.bp.blogspot.com/_RPnZKWxidg8/Svdi-EfWT0I/AAAAAAAABQ0/lQoVUIn8r6o/s320/Narragansett+Indian+Tribe037.JPG"/>
          <p:cNvPicPr/>
          <p:nvPr/>
        </p:nvPicPr>
        <p:blipFill>
          <a:blip r:embed="rId1"/>
          <a:stretch/>
        </p:blipFill>
        <p:spPr>
          <a:xfrm>
            <a:off x="304920" y="762120"/>
            <a:ext cx="3657600" cy="4876560"/>
          </a:xfrm>
          <a:prstGeom prst="rect">
            <a:avLst/>
          </a:prstGeom>
          <a:ln w="0">
            <a:noFill/>
          </a:ln>
        </p:spPr>
      </p:pic>
      <p:pic>
        <p:nvPicPr>
          <p:cNvPr id="209" name="Rectangle 3" descr=""/>
          <p:cNvPicPr/>
          <p:nvPr/>
        </p:nvPicPr>
        <p:blipFill>
          <a:blip r:embed="rId2"/>
          <a:stretch/>
        </p:blipFill>
        <p:spPr>
          <a:xfrm>
            <a:off x="298440" y="5632560"/>
            <a:ext cx="3713040" cy="135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www.lighthouse.cc/westquoddy/WQF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45720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igans Island"/>
              </a:rPr>
              <a:t>Welcome to West Quoddy Head Lighthouse!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560" y="837720"/>
            <a:ext cx="510516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 traders bought goods such as iron axes and brass kettles to exchange with the natives for their fur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Since the Narragansett had used tools made of stone and shell, they were happy to use the stronger tool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211" name="Picture 4" descr="http://t3.gstatic.com/images?q=tbn:xknj2lqamsbkzM:http://www.texasbeyondhistory.net/tejas/ancestors/images/nicholas-axes-lg.jpg"/>
          <p:cNvPicPr/>
          <p:nvPr/>
        </p:nvPicPr>
        <p:blipFill>
          <a:blip r:embed="rId1"/>
          <a:stretch/>
        </p:blipFill>
        <p:spPr>
          <a:xfrm>
            <a:off x="5562720" y="1219320"/>
            <a:ext cx="32670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Roger Williams, an English settler, visited the Grand Sachem (</a:t>
            </a:r>
            <a:r>
              <a:rPr b="1" i="1" lang="en-US" sz="3200" spc="-1" strike="noStrike">
                <a:solidFill>
                  <a:srgbClr val="000000"/>
                </a:solidFill>
                <a:latin typeface="Jester"/>
              </a:rPr>
              <a:t>chief</a:t>
            </a: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), Canonicus.  He bought the land that is now called Rhode Islan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Williams was friendly to the natives, learned their language, and earned their trust.  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He also helped to keep peace between the Native Americans and new colonist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Because Europeans took part of the Narragansett’s land, fights occurre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In 1675, Native Americans from Massachusetts attacked the colonists.  Since the Narragansetts were angry about their land being taken, they sided with the other native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Many were killed in battles that followe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Many natives eventually joined other Native American groups or moved to Canada, while some stayed on their land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In 1978, Rhode Island returned about 1,800 acres of land to the Narragansett reservation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A reservation is an area of land set aside for Native American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Every August, they hold their Annual Meeting Powwow and Green Corn Festival on their reservation in Charlestown.  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A powwow is a time for dancing, singing, and renewing old friendship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They also hold elections and handle disputes or argument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MS900069620[1].wav" descr=""/>
          <p:cNvPicPr/>
          <p:nvPr/>
        </p:nvPicPr>
        <p:blipFill>
          <a:blip r:embed="rId1"/>
          <a:stretch/>
        </p:blipFill>
        <p:spPr>
          <a:xfrm>
            <a:off x="56386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5410080" y="5181480"/>
            <a:ext cx="914400" cy="76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ipHopDemi"/>
              </a:rPr>
              <a:t>All Aboard!!!!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Take out your tickets---we’re going on a train ride to Connecticut!</a:t>
            </a:r>
            <a:endParaRPr b="0" lang="en-US" sz="44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221" name="Picture 2" descr="http://img1.loadtr.com/b-425102-animated_train.gif"/>
          <p:cNvPicPr/>
          <p:nvPr/>
        </p:nvPicPr>
        <p:blipFill>
          <a:blip r:embed="rId2"/>
          <a:stretch/>
        </p:blipFill>
        <p:spPr>
          <a:xfrm>
            <a:off x="9144000" y="3962520"/>
            <a:ext cx="5257800" cy="2730240"/>
          </a:xfrm>
          <a:prstGeom prst="rect">
            <a:avLst/>
          </a:prstGeom>
          <a:ln w="0">
            <a:noFill/>
          </a:ln>
        </p:spPr>
      </p:pic>
      <p:pic>
        <p:nvPicPr>
          <p:cNvPr id="222" name="MS900069620[1].wav" descr=""/>
          <p:cNvPicPr/>
          <p:nvPr/>
        </p:nvPicPr>
        <p:blipFill>
          <a:blip r:embed="rId3"/>
          <a:stretch/>
        </p:blipFill>
        <p:spPr>
          <a:xfrm>
            <a:off x="56386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Gilligans Islan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4400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167" dur="5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4400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MCMP00105_0000[1]"/>
          <p:cNvPicPr/>
          <p:nvPr/>
        </p:nvPicPr>
        <p:blipFill>
          <a:blip r:embed="rId1"/>
          <a:stretch/>
        </p:blipFill>
        <p:spPr>
          <a:xfrm>
            <a:off x="3124080" y="2895480"/>
            <a:ext cx="3337200" cy="3516480"/>
          </a:xfrm>
          <a:prstGeom prst="rect">
            <a:avLst/>
          </a:prstGeom>
          <a:ln w="0">
            <a:noFill/>
          </a:ln>
        </p:spPr>
      </p:pic>
      <p:pic>
        <p:nvPicPr>
          <p:cNvPr id="224" name="Rectangle 3" descr=""/>
          <p:cNvPicPr/>
          <p:nvPr/>
        </p:nvPicPr>
        <p:blipFill>
          <a:blip r:embed="rId2"/>
          <a:stretch/>
        </p:blipFill>
        <p:spPr>
          <a:xfrm>
            <a:off x="603360" y="1200240"/>
            <a:ext cx="8016840" cy="1725480"/>
          </a:xfrm>
          <a:prstGeom prst="rect">
            <a:avLst/>
          </a:prstGeom>
          <a:ln w="0">
            <a:noFill/>
          </a:ln>
        </p:spPr>
      </p:pic>
      <p:sp>
        <p:nvSpPr>
          <p:cNvPr id="225" name="5-Point Star 9"/>
          <p:cNvSpPr/>
          <p:nvPr/>
        </p:nvSpPr>
        <p:spPr>
          <a:xfrm>
            <a:off x="4495680" y="388620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http://img1.loadtr.com/b-425102-animated_train.gif"/>
          <p:cNvPicPr/>
          <p:nvPr/>
        </p:nvPicPr>
        <p:blipFill>
          <a:blip r:embed="rId3"/>
          <a:stretch/>
        </p:blipFill>
        <p:spPr>
          <a:xfrm>
            <a:off x="9144000" y="3200400"/>
            <a:ext cx="5257800" cy="2730600"/>
          </a:xfrm>
          <a:prstGeom prst="rect">
            <a:avLst/>
          </a:prstGeom>
          <a:ln w="0">
            <a:noFill/>
          </a:ln>
        </p:spPr>
      </p:pic>
      <p:pic>
        <p:nvPicPr>
          <p:cNvPr id="227" name="Train 02.wav" descr=""/>
          <p:cNvPicPr/>
          <p:nvPr/>
        </p:nvPicPr>
        <p:blipFill>
          <a:blip r:embed="rId4"/>
          <a:stretch/>
        </p:blipFill>
        <p:spPr>
          <a:xfrm>
            <a:off x="57150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175" dur="5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6894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Connecticut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215265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8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ipHopDemi"/>
              </a:rPr>
              <a:t>Whew! What a trip!</a:t>
            </a:r>
            <a:endParaRPr b="0" lang="en-US" sz="5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ipHopDemi"/>
              </a:rPr>
              <a:t>Luckily, we arrived in time to see the sun rise at the </a:t>
            </a:r>
            <a:endParaRPr b="0" lang="en-US" sz="5400" spc="-1" strike="noStrike">
              <a:solidFill>
                <a:srgbClr val="000000"/>
              </a:solidFill>
              <a:latin typeface="Jester"/>
            </a:endParaRPr>
          </a:p>
          <a:p>
            <a:pPr marL="335880" indent="-335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ff"/>
                </a:solidFill>
                <a:uFillTx/>
                <a:latin typeface="HipHopDemi"/>
                <a:hlinkClick r:id="rId1"/>
              </a:rPr>
              <a:t>West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HipHopDemi"/>
                <a:hlinkClick r:id="rId2"/>
              </a:rPr>
              <a:t>Quoddy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HipHopDemi"/>
                <a:hlinkClick r:id="rId3"/>
              </a:rPr>
              <a:t> Head Lighthouse</a:t>
            </a:r>
            <a:r>
              <a:rPr b="0" lang="en-US" sz="5400" spc="-1" strike="noStrike">
                <a:solidFill>
                  <a:srgbClr val="000000"/>
                </a:solidFill>
                <a:latin typeface="HipHopDemi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ipHopDemi"/>
              </a:rPr>
              <a:t>Look at the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HipHopDemi"/>
                <a:hlinkClick r:id="rId1"/>
              </a:rPr>
              <a:t>light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HipHopDemi"/>
              </a:rPr>
              <a:t> on top!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Jester"/>
              </a:rPr>
              <a:t>Lighthouses</a:t>
            </a:r>
            <a:r>
              <a:rPr b="1" lang="en-US" sz="3600" spc="-1" strike="noStrike">
                <a:solidFill>
                  <a:srgbClr val="ffffff"/>
                </a:solidFill>
                <a:latin typeface="Jester"/>
              </a:rPr>
              <a:t> use lights to signal the ships in the water.  Each lighthouse has a particular signal so that the sailors would know where they were!</a:t>
            </a:r>
            <a:endParaRPr b="0" lang="en-US" sz="36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>
            <a:alpha val="5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Fog Horn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A fog horn is blasted to warn sailors of the fog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West Quoddy Head lighthouse blasts its fog horn twice every 30 seconds.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99" name="Picture 5" descr="http://lighthouse.cc/westquoddy/foghornsIMG_2430.jpg"/>
          <p:cNvPicPr/>
          <p:nvPr/>
        </p:nvPicPr>
        <p:blipFill>
          <a:blip r:embed="rId1"/>
          <a:stretch/>
        </p:blipFill>
        <p:spPr>
          <a:xfrm>
            <a:off x="5562720" y="1523880"/>
            <a:ext cx="3105000" cy="4572000"/>
          </a:xfrm>
          <a:prstGeom prst="rect">
            <a:avLst/>
          </a:prstGeom>
          <a:ln w="0">
            <a:noFill/>
          </a:ln>
        </p:spPr>
      </p:pic>
      <p:pic>
        <p:nvPicPr>
          <p:cNvPr id="100" name="MS900069736[1].wav" descr=""/>
          <p:cNvPicPr/>
          <p:nvPr/>
        </p:nvPicPr>
        <p:blipFill>
          <a:blip r:embed="rId2"/>
          <a:stretch/>
        </p:blipFill>
        <p:spPr>
          <a:xfrm>
            <a:off x="4876920" y="4800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567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http://needled.files.wordpress.com/2010/06/lobster1.jpg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ipHopDemi"/>
              </a:rPr>
              <a:t>Lobsters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More than 50 million pounds of lobster every year!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Lobster used to be fed to prisoners because it wasn’t considered a delicacy 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ester"/>
              </a:rPr>
              <a:t>Lobsterman (people who fish for lobster) average about one lobster per trap-since there is a size requirment</a:t>
            </a: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ster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MS900069620[1].wav" descr=""/>
          <p:cNvPicPr/>
          <p:nvPr/>
        </p:nvPicPr>
        <p:blipFill>
          <a:blip r:embed="rId1"/>
          <a:stretch/>
        </p:blipFill>
        <p:spPr>
          <a:xfrm>
            <a:off x="56386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5334120" y="5181480"/>
            <a:ext cx="914400" cy="76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ipHopDemi"/>
              </a:rPr>
              <a:t>All Aboard!!!!</a:t>
            </a:r>
            <a:endParaRPr b="0" lang="en-US" sz="4400" spc="-1" strike="noStrike">
              <a:solidFill>
                <a:srgbClr val="000000"/>
              </a:solidFill>
              <a:latin typeface="HipHopDem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Take out your tickets---we’re going on a train ride to </a:t>
            </a:r>
            <a:endParaRPr b="0" lang="en-US" sz="4400" spc="-1" strike="noStrike">
              <a:solidFill>
                <a:srgbClr val="000000"/>
              </a:solidFill>
              <a:latin typeface="Jester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ester"/>
              </a:rPr>
              <a:t>New Hampshire!</a:t>
            </a:r>
            <a:endParaRPr b="0" lang="en-US" sz="4400" spc="-1" strike="noStrike">
              <a:solidFill>
                <a:srgbClr val="000000"/>
              </a:solidFill>
              <a:latin typeface="Jester"/>
            </a:endParaRPr>
          </a:p>
        </p:txBody>
      </p:sp>
      <p:pic>
        <p:nvPicPr>
          <p:cNvPr id="108" name="Picture 2" descr="http://img1.loadtr.com/b-425102-animated_train.gif"/>
          <p:cNvPicPr/>
          <p:nvPr/>
        </p:nvPicPr>
        <p:blipFill>
          <a:blip r:embed="rId2"/>
          <a:stretch/>
        </p:blipFill>
        <p:spPr>
          <a:xfrm>
            <a:off x="9144000" y="3962520"/>
            <a:ext cx="5257800" cy="273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Gilligans Islan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Gilligans Islan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44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045E-016 -4.88437E-006 L -1.7125 0.00093 E">
                                      <p:cBhvr>
                                        <p:cTn id="49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22:23:55Z</dcterms:created>
  <dc:creator>Stephanie</dc:creator>
  <dc:description/>
  <dc:language>en-US</dc:language>
  <cp:lastModifiedBy>Stephanie Mellen</cp:lastModifiedBy>
  <dcterms:modified xsi:type="dcterms:W3CDTF">2010-10-22T13:23:20Z</dcterms:modified>
  <cp:revision>154</cp:revision>
  <dc:subject/>
  <dc:title>Welcome to the  Northeast Region!</dc:title>
</cp:coreProperties>
</file>